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44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45.xml.rels" ContentType="application/vnd.openxmlformats-package.relationships+xml"/>
  <Override PartName="/ppt/slides/_rels/slide160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29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8.xml.rels" ContentType="application/vnd.openxmlformats-package.relationships+xml"/>
  <Override PartName="/ppt/slides/_rels/slide170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7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206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53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21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7.xml.rels" ContentType="application/vnd.openxmlformats-package.relationships+xml"/>
  <Override PartName="/ppt/slides/_rels/slide27.xml.rels" ContentType="application/vnd.openxmlformats-package.relationships+xml"/>
  <Override PartName="/ppt/slides/_rels/slide199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156.xml.rels" ContentType="application/vnd.openxmlformats-package.relationships+xml"/>
  <Override PartName="/ppt/slides/_rels/slide14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205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79.xml.rels" ContentType="application/vnd.openxmlformats-package.relationships+xml"/>
  <Override PartName="/ppt/slides/_rels/slide178.xml.rels" ContentType="application/vnd.openxmlformats-package.relationships+xml"/>
  <Override PartName="/ppt/slides/_rels/slide130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159.xml.rels" ContentType="application/vnd.openxmlformats-package.relationships+xml"/>
  <Override PartName="/ppt/slides/_rels/slide211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61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0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28.xml" ContentType="application/vnd.openxmlformats-officedocument.presentationml.slide+xml"/>
  <Override PartName="/ppt/slides/slide196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33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7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201.xml" ContentType="application/vnd.openxmlformats-officedocument.presentationml.slide+xml"/>
  <Override PartName="/ppt/slides/slide19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210.xml" ContentType="application/vnd.openxmlformats-officedocument.presentationml.slide+xml"/>
  <Override PartName="/ppt/slides/slide148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211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89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66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58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1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704-BF8C-46F9-B7C4-E09F2F2C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FDC-EED1-4A8E-9547-B9878BC9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F9C4-DAA0-44C1-8E93-001D1889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B87-4847-440A-8321-D4B0D494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600E-AB0D-4A6F-A256-00E3C09D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CBF-21B5-4554-9922-C27634AD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A57-F8CE-4150-BB8E-EB366961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346-8A65-474B-B33D-5DCC58AA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D96-ED0F-49C5-B1FD-7AF8D0D6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FFE4-E33E-4840-A5C0-B4114895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E512-2A49-4B76-92F8-EDFAB673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A7D-E18D-47CB-A4F9-9FC302B6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9F94-8164-4900-B3EB-A1D56BDFE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äÌáÇãQ á½áAEá§á® åSâxáW åÈáÂ áYå×á§å®áF åÉã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f You bestow, You stain not Your bestowal with obliga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WáäkâÆ ã­Cá§ã»åÊB áÑ ãÐãXåºáÑ ãÅCáÇáW ákåËã® CáËáºánCá¶ åkáº áäÈâ[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Íãjáká® ãAEá¶áÑ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n it parted from us at the completion of its time, the end of its term, and the fulfillment of its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Ëå×áÃá® âÐâºBáoã¶ áäqá® åÌáÆ á­BájáÑ âÍÒâ®ãäjáÒâÆ âÌådáË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o we bid farewell to it with the farewell of one whose parting pains 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äËá® âÐ¶Báoã|åÊB CáËáxácåÑáF áÑ CáËáäÇá²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hose leaving fills us with gloom and lonelin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©Òâ·ådáÇåÂB âÅCáÆãämÂB âÐáÂ CáËáÆãqáÂ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o whom we have come to owe a safeguarded clai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äUáä×ã®åoáÇåÂB âUáÆåoâdåÂ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 observed inviolabilit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äØã£å»áÇåÂB âä¼ádåÂ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discharged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oáRå¾áÛBB ãÐáäÃÂB áoåÏáw CáÖ áÀ×ãÃá® âÅáÚáätÂB áÉÒâÃãMEáº âÌådáË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MEá×ãÂåÑáF ák×ã® CáÖ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e say: 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greatest month of God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festival of His frien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VCáºåÑáÛBB áÌãÆ èPÒâdå|áÆ áÅáoå¾áF EáÖ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VCá®CáätÂBáÑ ãÅCáäÖáÛBB Øã¶ èoåÏáw áoå×ág CáÖ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most noble of accompanying times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best of months in days and hou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ÁCáÆåÝB ãÐ×ã¶ åYáQâoáº èoåÏáw åÌã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ÁCáÇå®áÛBB ãÐ×ã¶ åVáoãxâÊ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onth in which expectations come nea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good works are scattered abou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BæjÒâ_åÒáÆ âÍânåkáº áäÄá_ èÌÖãoáº åÌã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comrade who is great in worth when fou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æÖãäká¯áW áÀâ¯åËáÆ åÌâ¿áÖ åÈáÂ áYå¯ËáÆ åÉãH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if You withhold, You withhold not in transgress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âºBáoã¶ áÈáÂD èäÒâ_åoáÆ áÑ BæjÒâ»å·áÆ âÍâkå»á¶ á°á`å¶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who torments through absence when lost, anticipated friend whose parting gives pai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äoátá¶ æÚãRå»âÆ áuáÊD è¸×ãÂáF åÌã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ä¤áÇá¶ Cá×ã£á»åËâÆ áyácåÑ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amiliar who brought comfort in coming, thus making happy, who left loneliness in going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us giving anguish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PÒâÃâ»åÂB ãÐ×ã¶ åYáäºán ènãÑCá`âÆ åÌã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PÒâÊâämÂB ãÐ×ã¶ åYáäÃá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neighbour in whom hearts became tender and sins became few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ÉCá§å×áäxÂB ÔáÃá® áÉCá®áF èoã{CáÊ Ìã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ÉCátåcãåßB áÄâRâs áÄáäÏás èSãcCá{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elper who aided against Satan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companion who made easy the paths of good-do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×ã¶ ãÐáäÃÂB áAEá»áXâ® áoá\å¾áF Eá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Q áÀáXáÆåoâc Ôá®án åÌáÆ áká¯åsáF Eá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ow many became freedmen of God within you!  How happy those who observed the respect due to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PÒâÊâämÃãÂ á½CádåÆáF áÉCá¾ Cá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PÒâ×â¯åÂB ã­BáÒåÊáãÛ á½áoáXås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ow many sins you erased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ow many kinds of faults you covered ov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×ãÆãoå`âÇåÂB ÔáÃá® áÀáÂáÒå¦áF áÉCá¾ Cá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×ãËãÆåKâÇåÂB ãnÑâkâ{ Øã¶ áÀáRá×åÎ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ow drawn out were you for the sinners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ow awesome were you in the hearts of the faith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CáäÖáÛBB âÐâtã¶CáËâW áÙ èoåÏáw åÌã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onth with which no days compe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çÅáÚás èoåÆáF ãäÄâ¾ åÌãÆ áÒâÎ èoåÏáw åÌã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onth which is peace in all affai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táQáÚâÇåÂB ãÈ×ãÆál áÙ áÑ ãUáRácCá|âÇåÂB ãÐÖãoá¾ áoå×á²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whose companionship is not disliked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whose friendly mixing is not blam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áoå¿âw âÐáXåÇáÏåÂáF áYåÊáF áÑ á½áoá¿w åÌáÆ âoâ¿åxá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show gratitude to him who thanks, while You have inspired him to thank Y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VCá¾áoáRåÂCãQ CáËå×áÃá® áVåká¶áÑ CáÇá¾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VCáN×ã§áhåÂB áuáÊáj CáäËá® áYåÃátá²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just as you have entered upon us with blessings and cleansed us of the defilement of offens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æÆáoáQ è­áäjáÒâÆ áoå×á²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æÆáGás âÐâÆCá×ã{ è½ÑâoåXáÆ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are not bid farewell in annoyanc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nor is your fasting left in wearine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XåºáÑ áÄåRáº èPÒâÃå§áÆ åÌã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WåÒá¶ áÄåRáº ãÐå×áÃá® èÉÑâqådá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bject of seeking before your time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bject of sorrow before your pass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äËá® áÀãQ áµãoâ{ èAÒâs åÌãÆ åÈá¾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Ëå×áÃá® áÀãQ á¤×ã¶âF èoå×ág åÌãÆ åÈá¾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ow much evil was turned away from us through you!  How much good flowed upon us because of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çoå×ág áØãÎ Ø~ãXáäÂB ãnåká»åÂB ãUáÃå×áÂ ÔáÃá®áÑ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oåÏáw ã¸åÂáF åÌã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upon the Night of Decree which is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etter than a thousand months! 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97: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Ãá® ãuåÆáÛBCãQ CáËá{áoåcáF áÉCá¾ Cá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H Dæká² CáËáºåÒáw áäkáw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ow much we craved you yesterday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ow intensely we shall yearn for you tomorr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ÍCáËåÆãoâc ÕãmáäÂB áÀãÃå£á¶ ÔáÃá®áÑ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ÍCáËåRãÃâs áÀãWCá¾áoáQ åÌãÆ è¡CáÆ ÔáÃá®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 and upon your bounty which has now been made unlawful to us and upon your blessings gone by which have now been stripped away from u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Q CáËáXå¶áäoáw ÕãmáäÂB ãoåÏáäxÂB BámáÎ âÄåÎáF EáäÊãH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we are the people of this month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rough it You have ennobled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áXåºáÑ âAEá×ã»åwáÛBB áÄãÏá_ áÌ×ãc âÐáÂ áÀãäËáÇãQ CáËáXå»áä¶áÑ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given us success because of Your kindness, while the wretched are ignorant of its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áÃå£á¶ åÈãÏãMEá»áxãÂ BÒâÆãoâc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ade unlawful to them is its bounty because of their wretched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ákåÇác âÐáXåÇáäÃá® áYåÊáF áÑ á½ákãÇác åÌáÆ âOã¶Cá¿â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reward him who praises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ough You have taught him Your prai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Xá¶ãoå¯áÆ åÌãÆ ãÐãQ CáËáWåoá[D CáÆ âäØãÂáÑ áYåÊ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are the patron of the knowledge of it by which You have preferred 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XáäËâs åÌãÆ âÐáÂ CáËáXåÖákáÎ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its prescribed practices to which You have guided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o×ã|å»áW ÔáÃá® âÐáÆCá×ãºáÑ âÐáÆCá×ã{ áÀã»×ã¶åÒáXãQ CáËå×áäÂáÒáW åká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e have undertaken, through Your giving success, its fasting and its standing in prayer, but with shortcoming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o×ã\á¾ åÌãÆ æÚ×ãÃáº ãÐ×ã¶ CáËåÖáäj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we have performed little of m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TáAEásãåßCãQ BænBáoåºãH âkåÇádåÂB áÀáÃá¶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so to You belongs praise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admission of evil do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®Cá¢ãåßCãQ Cæ¶BáoãXå®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confession of negligen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káäËÂB âkå»á® CáËãQÒâÃâº åÌãÆ áÀáÂ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o You belongs remorse firmly knitted in our hear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nBámãXå®ãÙB â¹åkã{ CáËãXáËãtåÂáF åÌã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eeking of pardon sincerely uttered by our tong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¨Öãoå·áäXÂB áÌãÆ ãÐ×ã¶ CáËáQCá{F EáÆ ÔáÃá® CáÊåoâ_åG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Reward us, in spite of the neglect that befell us in this mont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×ã¶ áPÒâ²åoáÇåÂB áÄå£á·åÂB ãÐãQ â½ãnåkáXåtáÊ Bæoå_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ith a reward through which we may reach the bounty desired from i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áXådá£á¶ áYåNãw åÒáÂ åÌáÆ ÔáÃá® âoâXåt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cover him whom, if You willed, You would expos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áÃá® ãzÑâoådáÇåÂB ãoågâämÂB ã­BáÒåÊáF åÌãÆ ãÐãQ â¡CáXå¯áÊ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win the varieties of its craved stor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ä»ác åÌãÆ ãÐ×ã¶ CáÊåoáä|áº CáÆ ÔáÃá® á½ánåmâ® CáËáÂ åSã_åÑ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ake incumbent upon us Your pardon for our falling short of Your right in this mon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ÄãRå»âÇåÂB áÉCá£áÆán ãoåÏáw åÌãÆ CáËÖãkåÖáF áÌå×áQ CáÆ CáÊãnCáÇå®áGãQ å´âÃåQ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our lives which lie before us reach the coming month of Rama_á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ÍCáËáXå³áäÃáQ BálãI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nce You have made us reach i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TájCáRã¯åÂB áÌãÆ âÐâÃåÎáF áYåÊáF EáÆ ãÁâÑCáËáW ÔáÃá® CáäËã®áG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elp us perform the worship of which You are worth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®Cáä§ÂB áÌãÆ âÐâä»ãdáXåtáÖ CáÇãQ ãÅCá×ã»åÂB ÔáÂãH EáÊãäj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cause us to undertake the obedience which You deserv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ä»ádãÂ Cæ¾ánáj âÉÒ¿áÖ CáÆ ãÄáÇá¯åÂB ãeãÂCá{ åÌãÆ CáËáÂ ãoå_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oåÎáäkÂB ãnÒâÏâw åÌãÆ ãÌåÖáoåÏáäxÂB Øã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grant us righteous works that we may fulfill Your right in these two months of the months of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ÈáÇáÂ åÌãÆ BámáÎ CáÊãoåÏáw Øã¶ ãÐãQ CáËåÇáÇåÂáF EáÆ áÑ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Èå[ãH åÑá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as for the small and large sins which we have committed in this our mont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UáN×ã§ág åÌãÆ ãÐ×ã¶ CáËåRátáXå¾B áÑ èSåÊál åÌãÆ ãÐ×ã¶ CáËå¯áºBáÑ åÑá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misdeeds into which we have fallen, and the offenses which we have ea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Ëátâ·åÊáF ãÐ×ã¶ CáËåÇáÃáª èÉCá×åtãÊ ÔáÃá® åÑáF EáäËãÆ èkâäÇá¯áW Ô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urposefully or in forgetfulness, wronging ourselves there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áXå¯áËáÆ áYåNãw åÒáÂ åÌáÆ ÔáÃá® âjÒâ`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 are generous toward him from whom, if You willed, You would withh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Êãoå×á² åÌãÆ æUáÆåoâc ãÐãQ CáËå¿áÏáXåÊB ãÑá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r violating the respect due to other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ÂD áÑ èkáäÇádâÆ ÔáÃá® ãäÄá|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less Muhammad and his Househol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ãoåXãtãQ CáÊåoâXås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cover us over with Your cover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ãÒå·á¯ãQ CáäËá® â¸å®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ardon us through Your pardon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×ãXãÆCáäxÂB ãÌâ×å®áãÛ ãÐ×ã¶ CáËåRã|åËáW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lace us not before the eyes of the gloaters because of tha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×ãËã®Cáä§ÂB áÌâtåÂáF ãÐ×ã¶ CáËå×áÃá® å¨âtåRáW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tretch not toward us the tongues of the defamer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äËãÆ áVåoá¿åÊáF EáÇãÂ æTánCáä·á¾áÑ æUáä§ãc âÉÒâ¿áÖ CáÇãQ CáËåÃãÇå¯áXås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×ã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employ us in that which will alleviate and expiate whatever You disapprove from us within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ká·åËáW áÙ Ø~ãXáäÂB áÀãXá¶åFáo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rough Your clemency which does not run ou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}â»åËáÖ áÙ ÕãmáäÂB áÀãÃå£á¶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r bounty which does not diminish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°åËáÇåÂBáÑ ãUád×ã£á·åÃãÂ áÀåËãÆ çÄåÎáF EáÇâÎáÚã¾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oth are worthy of Your exposure and withhold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ÊãoåÏáxãQ CáËáXáR×ã|âÆ åoâRå_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redress our being afflicted by our mont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Êãoå§ã¶áÑ CáÊãk×ã® ãÅåÒáÖ Øã¶ CáËáÂ å½ãnCáQ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less us in this day of our festival and our fast-break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Òå·á¯ãÂ ãÐãRáÃå_áF EáËå×áÃá® áäoáÆ èÅåÒáÖ ãoå×ág åÌãÆ âÐåÃá¯å_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SåÊámãÂ âÍCádåÆ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ake it one of the best of days that have passed over us, the greatest in attracting Your pardon, and the most effacing toward sin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áÃá® CáÆ áÑ CáËãQÒâÊâl åÌãÆ áØã·ág CáÆ CáËáÂ åoã·å²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forgive us our sins, both the concealed and the public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ÊCáÖCá§ág åÌãÆ ãoåÏáäxÂB BámáÎ ãfáÚãtåÊCãQ CáËåháÃåsB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with the passing of this month make us pass forth from our offens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ËãWCáNãä×ás åÌãÆ ãÐã_ÑâoâhãQ CáËå_ãoåg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ith its departure make us depart from our evil deed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×ã¶ CæÇåtãº åÈãÏãÂáqå_áF áÑ ãÐãQ ãÐãÃåÎáF ãká¯åsáF åÌãÆ CáËåÃá¯å_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åËãÆ Cæä«ác åÈãÎãoá¶åÑ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ppoint us thereby among its most felicitous people, the most plentiful of them in portion, and the fullest of them in sha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XáÖCá®ãn áä¼ác ãoåÏáäxÂB BámáÎ áä¼ác Ôá®án åÌáÆáÑ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when any person observes this month as it should be observ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Ïã«å·ãc áä¼ác âÐáXáÆåoâc á¬ã·ác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afeguards its inviolability as it should be safeguard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ÏãÆCá×ãº áä¼ác ãÍãjÑâkâdãQ áÅCá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ttends to its bounds as they should be attended t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Äâä£á·áäXÂB ÔáÃá® áÀáÂCá¯á¶áF áYå×áËáQ áÀáäÊáF áoå×á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ut You have founded Your acts upon gratuitous bount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ÏãWCá»âW áä¼ác âÐáQÒâÊâl Ôá»áä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ears its misdeeds as they should be fear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áÂ á½Cá¢ãn åYáRá_åÑáF èUáQåoâ»ãQ áÀå×áÂãH áPáäoá»áW åÑá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r seeks nearness to You with any act of nearness-seeking which makes incumbent upon him Your good pl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áÃá® áÀáXáÇåcán åYá·á§á®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bends toward him Your merc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ãkå_Ñ åÌãÆ âÐáÃå\ãÆ CáËáÂ åSáÏ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to us the like [of that] from Your weal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Ãå£á¶ åÌãÆ âÐá¶Cá¯å¢áF EáËã§å®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bestow it upon us in multiples through Your bount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¤×ã³áÖ áÙ áÀáÃå£á¶ áäÉãI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Your bounty does not diminis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¤×ã·áW åÄáQ â}â»åËáW áÙ áÀáËãMDáqág áäÉãH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r treasuries do not decrease but overflo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áËå·áW áÙ áÀãÊCátåcãH áÉãjCá¯áÆ áäÉãH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mines of Your beneficence are not exhaust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äËáÏâÇåÂB âAEá§á¯åÃáÂ á½áAEá§á® áäÉãH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r bestowal is the bestowal full of de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pÑCá`áäXÂB ÔáÃá® áÀáWánåkâº áYåÖáoå_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channelled Your power into forbearan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×ã¶ áÀáÂ ákáäRá¯áW åÑáF âÐáÆCá{ åÌáÆ ãnÒâ_âF áÄå\ãÆ CáËáÂ åSâXå¾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ÆCá×ã»åÂB ãÅåÒáÖ ÔáÂã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write for us the like of the wages of him who fasted in it or worshipped You within i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until the Day of Resurr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Êãoå§ã¶ ãÅåÒáÖ Øã¶ áÀå×áÂãH âPÒâXáÊ CáäÊãH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we repent to You in our day of fast-break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BænÑâoâsáÑ Bæk×ã® áÌ×ãËãÆåKâÇåÃãÂ âÐáXåÃá¯á_ Õãmáä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hich You have appointed for the faithful a festival and a jo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BækáxáXådâÆáÑ Cæ¯áÇå`áÆ áÀãXáäÃãÆ ãÄåÎáãÛ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for the people of Your creed a time of assembly and gather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ÍCáËåR~áÊåláF èSåÊál ãäÄâ¾ åÌã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rom every misdeed we di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ÍCáËå·áÃåsáF èAÒâs åÑá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ll work we sent ahe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ÍCáÊåoáÇå¢áF èäoáw ãoã¦Cág åÑá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r evil thought we secretly conceiv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SåÊál ÔáÂãH è­Òâ_ân ÔáÃá® ÕãÒá§åËáÖ áÙ åÌáÆ áUáQåÒá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repentance of one who does not harbour a return to si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UáN×ã§ág Øã¶ CáÎákå¯áQ âjÒâ¯áÖ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who afterwards will not go back to offens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PCá×ãWånãÙBáÑ ãäÀáäxÂB áÌãÆ åYá|áÃág CæcÒâ|áÊ æUáQåÒá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 unswerving repentance rid of doubt and wave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ÃãdåÂCãQ á½Cá|á® åÌáÆ áYå×áä»áÃ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received him who disobeyed You with clemenc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Ïå×áÃá® CáËåXãäR~á[ áÑ CáäËá® á¡ånB áÑ CáäËãÆ CáÏåÃáäRá»áX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o accept it from us, be pleased with us, and fix us within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k×ã®áÒåÂB ãPCá»ã® áµåÒág CáËåºâpånB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provide us with fear of the threatened punishmen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jÒâ®åÒáÇåÂB ãPBáÒá[ á¹åÒ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earning for the promised rewar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Q á½Òâ®åkáÊ CáÆ áTáämáÂ ákã`áÊ ÔáäXá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o that we may find the pleasure of that for which we supplicate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åËãÆ á½âo×ã`áXåtáÊ CáÆ áUáQåGá¾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sorrow of that from which we seek sanctuary in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×ãQBáäÒáäXÂB áÌãÆ á½ákåËã® CáËåÃá¯å_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us with You among the repenter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áXáäRádáÆ åÈâÏáÂ áYåRá_åÑáF áÌÖãmáä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ose upon whom You have made Your love oblig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Xá®Cá¦ áUá¯á_BáoâÆ åÈâÏåËãÆ áYåÃãRá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from whom You have accepted the return to obeying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×ãÂãjCá¯åÂB áÁákå®áF E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Most Just of the ju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æ¯×ãÇá_ CáËãËÖãj ãÄåÎFáÑ CáËãWCáÏáäÆâFáÑ CáËãMEáQD åÌá® åpáÑCá`áW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show forbearance toward our fathers and our mothers and all the people of our relig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  <a:ea typeface="Courier New"/>
              </a:rPr>
              <a:t>èkáäÇádâÆ ãÁB á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send Your blessings on Muhamm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family of Muh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Ãâä«ÂCãQ ãÐãtå·áËãÂ áká|áº åÌáÆ áYåÃáÏåÆ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disregarded him who intended wrongdoing against him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ÆCá×ã»åÂB ãÅåÒáÖ ÔáÂãH áoáRá² åÌáÆáÑ åÈâÏåËãÆ á¸áÃás åÌá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ose who have gone and those who will pass by, until the Day of Resurr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ÂD áÑ CáËãä×ãRáÊ èkáäÇádâÆ ÔáÃá® ãäÄá{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our prophet Muhammad and his Househol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×ãQáäoá»âÇåÂB áÀãXá¿ãMáÚáÆ ÔáÃá® áYå×áäÃá{ CáÇá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s You have blessed Your angels brought nea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×ãÃásåoâÇåÂB áÀãMEá×ãRåÊáF ÔáÃá® áYå×áäÃá{ CáÇá¾ ãÐãÂD áÑ ãÐå×áÃá® ãäÄá{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less him and his Household, as You have blessed Your prophets sent ou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×ãdãÂCáä|ÂB á½ãjCáRã® ÔáÃá® áYå×áäÃá{ CáÇá¾ ãÐãÂD áÑ ãÐå×áÃá® ãäÄá{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less him and his Household, as You have blessed Your righteous servan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Úá{ áÌ×ãÇáÂCá¯åÂB áäPán CáÖ áÀãÂál åÌãÆ Äá£å¶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ÏâXá¾áoáQ CáËâ³âÃåRá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- and better than that, O Lord of the worlds! - a blessing whose benediction will reach 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ÊâJEá®âj CáÏáÂ âPCá`áXåtâÖ áÑ CáÏâ¯å·áÊ CáËâÂCáËáÖ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hose benefit will attain to us, and through which our supplication may be grant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áÂãH áSã²ân åÌáÆ âÅáoå¾áF áÀáäÊã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are the most generous of those who are beseech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áÃá® áÄãä¾ÒâW åÌáÆ Ôá·å¾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most sufficient of those in whom confidence is h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Ãå£á¶ åÌãÆ áÄãNâs åÌáÆ Ôá§å®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most bestowing of those from whom bounty is ask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QCáÊãåßB ÔáÂãH áÀãWCáÊáGãQ åÈâÎâoã«åËáXtá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await their turning back without h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çoÖãkáº èAØáw ãäÄâ¾ ÔáÃá® áYåÊ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are powerful over everything! 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3:2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  <a:ea typeface="Courier New"/>
              </a:rPr>
              <a:t>èkáäÇádâÆ ãÁB á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send Your blessings on Muhamm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family of Muh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QåÒáäXÂB ÔáÂãH åÈâÏáXáÃá_Cá¯âÆ â½âoåXáW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refrain from rushing them toward repentan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ÈâÏâ¿ãÂCáÎ áÀå×áÃá® áÀãÃåÏáÖ áÚå×á¿ã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o that the perisher among them may not perish, because of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ÈâÏâä×ã»áw áÀãXáÇå¯ãËãQ Ôá»åxáÖ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wretched may not be wretched through Your favou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áÂãH ãnBámå®ãåßB ãÁÒâ¦ åÌá® áäÙã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ut only after Your prolonged excusing hi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áÃá® ãUáä`âdåÂB ãµâjBáoáW ákå¯áQ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uccessive arguments against hi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ÈÖãoá¾ CáÖ á½ãÒå·á® ÌãÆ CæÆáoá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s an act of generosity through Your pardon, O Genero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È×ãÃác CáÖ áÀã·å§á® åÌãÆ æTákãMEá®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n act of kindliness through Your tenderness, O Cleme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UáQåÒáäXÂB âÐáXå×áäÇásáÑ á½ãÒå·á® ÔáÂãH EæQCáQ á½ãjCáRã¯ãÂ áYådáXá¶ ÕãmáäÂB áYåÊá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t is You who have opened for Your servan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 door to Your pardon, which You have named ‘repentance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qá`åÂB Øã¶ âSá²åoáÖ áÙ åÌáÆ CáÖ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He who desires no repayment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BÒâäÃã£áÖ áÚáNãÂ áÀã×åcáÑ åÌãÆ æÚ×ãÂáj ãPCáRåÂB áÀãÂál ÔáÃá® áYåÃá¯á_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âÇåsB ½ánCáRáW áYåÃâ»á¶ âÐåË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placed upon that door a pointer from Your revelation, lest they stray from it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          You have said (blessed are Your name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oãä·á¿âÖ åÉáF åÈâ¿âäQán Ôátá® CæcÒâ|áÊ æUáQåÒáW ãÐáäÃÂB ÔáÂãH DáÒâQÒâ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Èâ¿ãWCáNãä×ás åÈâ¿åËá®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Repent toward God with unswerving repentance! It may be that Your Lord will acquit of your evil d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nCáÏåÊáÛBB CáÏãXådáW åÌãÆ Õãoå`áW èVCáäËá_ åÈâ¿áÃãgåkâÖ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will admit you into gardens beneath which rivers flo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á¯áÆ BÒâËáÆD áÌÖãmáäÂB áÑ áäØãRáäËÂB âÐáäÃÂB ÕãqåhâÖ áÙ áÅåÒ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upon the day when God will not degrade the Prophet and those who have faith along with him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ÈãÏãÊCáÇåÖáGãQáÑ âÈãÏÖãkåÖáF áÌå×áQ Ôá¯åtáÖ åÈâÎânÒâ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ir light running before them and on their right hand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EáËáÂ åoã·å²BáÑ CáÊánÒâÊ CáËáÂ åÈãÇåWáF EáËáäQán áÉÒâÂÒâ»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y say: ‘Our Lord, complete for us our light, and forgive u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çoÖãkáº èAØáw ãäÄâ¾ ÔáÃá® áÀáäÊã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urely You art powerful over everything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.’ (66: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ÁãqåËáÇåÂB áÀãÂál áÁÒâgâj áÄá·å²áF åÌáÆ ânåmâ® CáÇ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hat is the excuse of him who remains heedless of entering that 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?ãÄ×ãÂáäkÂB ãUáÆCáºãH áÑ ãPCáRåÂB ãeåXá¶ ákå¯á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fter the opening of the door and the setting up of the poin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ãjCáRã¯ãÂ áÀãtå·áÊ ÔáÃá® ãÅåÒáätÂB Øã¶ áVåjãp ÕãmáäÂB áYåÊ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t is You who have raised the price against Yourself to the advantage of Your servants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  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Eá§á¯åÂB ÔáÃá® âÅákåËáÖ áÙ åÌáÆ CáÖ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He who shows no remorse at bestow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áÂ åÈÏãWáoá_CáXâÆ Øã¶ åÈâÏádåQãn âkÖãoâ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desiring their profit in their trade with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ËãÆ ãTájCáÖãäqÂBáÑ áÀå×áÃá® ãTájCá¶ãÒåÂCãQ åÈâÎápåÒá¶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ir triumph through reaching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ir increase on account of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Yå×áÂCá¯áW áÑ áÀâÇåsB á½ánCáRáW áYåÃâ»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You have said (blessed is Your Name and high are You exalted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ÏãÂCá\åÆáF âoåxá® âÐáÃá¶ ãUáËátádåÂCãQ áAEá_ åÌá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hoso brings a good deed shall have ten the like of i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ÏáÃå\ãÆ áÙãH Óáqå`âÖ áÚá¶ ãUáNãä×áätÂCãQ áAEá_ åÌáÆ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whoso brings an evil deed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hall only be recompensed the like of it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. (6:1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áäÃÂB ãÄ×ãRás Øã¶ åÈâÏáÂBáÒåÆáF áÉÒâ»ã·åËâÖ áÌÖãmáäÂB âÄá\áÆ YåÃâ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ÄãQCáËás á°åRás åYáXáRåÊáF èUáäRác ãÄá\áÇá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said, ‘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likeness of those who expend their wealth in the way of God is as the likeness of a grain of corn that sprouts seven ear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EáxáÖ åÌáÇãÂ â¸ã®Cá£âÖ âÐáäÃÂB áÑ èUáäRác âUáMCãÆ èUáÃâRåËâs ãäÄâ¾ Øã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every ear a hundred grains; so God multiplies unto whom He wills.’ 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2:26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æËátác Cæ¢åoáº áÐáäÃÂB â¡ãoå»âÖ ÕãmáäÂB Bál åÌáÆ YåÃâº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?æTáo×ã\á¾ Cæ¶Cá¯å¢áF âÐáÂ âÐá·ã®Cá£â×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said, ‘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ho is he that will lend to God a good loan, and He will multiply it for him manifold?’ 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4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¸×ã®Cá£áW åÌãÆ ãÉDåoâ»åÂB Øã¶ áäÌãÎãoãMEá«áÊ ÌãÆ áYåÂáqåÊáF Eá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VCáËátádå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 have sent down in the Qur’án similar verses on the multiplying of good dee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Rå×á² åÌãÆ áÀãÂåÒá»ãQ åÈâÏáXåÃáÂáj ÕãmáäÂB áYåÊ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t is You who have pointed them through Your speech from Your Uns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ÒáätÂB ÔáÃá® âÍákåRá® âOã¶Cá¿âÖ áÙ åÌáÆ CáÖ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He who rewards not His servant tit for t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ÈâÏåËá® âÐáWåoáXás åÒáÂ CáÆ ÔáÃá® åÈâÏâä«ác ãÐ×ã¶ ÕãmáäÂB áÀãR×ã²åo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r encouragement in which lies their good fortune toward that which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- had You covered it from them -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ÈâÎânCá|åQáF âÐå¾ãnåkâW åÈá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ir eyes would not have perceiv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ÈâÏâ®CáÇåsáF ãÐã¯áW åÈáÂ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ir ears would not have hear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ÈâÏâÆCáÎåÑáF âÐå»ádåÃáW åÈáÂ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ir imaginations would not have grasp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ÉÑâoâ·å¿áW áÙ áÑ ØãÂ BÑâoâ¿åwB áÑ åÈâ¾åoâ¾åláF ØãÊÑâoâ¾ålB áYåÃâ»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You have said, ‘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Remember Me and I will remember you, be thankful to Me, and be you not thankless towards Me!’ 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15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ÈâWåoá·á¾ åÌãNáÂáÑ åÈâ¿áäÊákÖãpáÙ åÈâWåoá¿áw åÌãNáÂ áYåÃâº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çkÖãkáxáÂ ØãQBámá® áäÉã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said, ‘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f you are thankful, surely I will increase you, but if you are thankless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y chastisement is surely terrible.’ 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14: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Èâ¿áÂ åSã`áXåsáF ØãÊÒâ®åjB áYåÃâ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 have said, ‘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upplicate Me and I will respond to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ÈáäËáÏá_ áÉÒâÃâgåká×ás ØãWájCáRã® åÌá® áÉÑâoãRå¿áXåtáÖ áÌÖãmáäÂB áäÉã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ÖãoãgBá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urely those who wax too proud to worship Me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hall enter Jahannam utterly abject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.’ (40: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BænCáRå¿ãXåsB âÐá¾åoáW áÑ æTájCáRã® á½áAEá®âj áYå×áäÇát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ence You have named supplicating You ‘worship’ and refraining from it ‘waxing proud’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ÖãoãgBáj áÈáäËáÏá_ áÁÒâgâj ãÐã¾åoáW ÔáÃá® áVåkáä®áÒ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 have threatened that the refraining from it would yield entrance into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Jahannam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in utter abj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çADákãXåQB áÀâXáäËã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r kindness is a new beginn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äËáÇãQ á½Ñâoá¾ám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o they remember You for Your kindn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Ãå£á·ãQ á½Ñâoá¿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y thank You for Your bount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ãoåÆáGãQ á½åÒá®áj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y supplicate You by Your comma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ãkÖãqáÇãÂ CæRáÃá¦ áÀáÂ BÒâºáäká|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y donate for You in order to seek Your increas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Rá£á² åÌãÆ åÈâÏâWCá`áÊ åYáÊCá¾ CáÏ×ã¶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Cá¢ãoãQ åÈâÎâpåÒá¶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all this lies their deliverance from Your wrath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ir triumph through Your good pl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ÕãmáäÂB ãÄå\ãÆ ÔáÃá® ãÐãtå·áÊ åÌãÆ CæºÒâÃåháÆ ç¹ÒâÃåháÆ áäÁáj åÒáÂ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ËãÆ ½ájCáRã® ãÐå×áÃá® áYåÃáÂá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ere any creature himself to direct another creature to the like of that to which You Yourself have directed Your servan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ÉCáËãXåÆãÙCãQ CæWÒâ¯åËáÆ áÑ ãÉCátåcãåßCãQ Cæ¶Òâ{åÒáÆ áÉCá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ÉCátãÂ ãäÄâ¿ãQ BæjÒâÇådá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e would be described by beneficence, qualified by kindness, and praised by every tong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çSáÎåmáÆ á½ãkåÇác Øã¶ ákã_âÑ CáÆ âkåÇádåÂB áÀáÃ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o to You belongs praise as long as there is found a way to praise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áÂãH âµãoá|åËáÖ ÔæËå¯áÆ áÑ ãÐãQ âkáÇådâW ç¬å·áÂ ãkåÇádåÃãÂ Øã»áQ Cá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s long as there remains for praising words by which You may be praised and meanings which may be spent in praise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Äå£á·åÂB áÑ ãÉCátåcãåßCãQ ãÍãjCáRã® ÔáÂãH ákáäÇádáW åÌá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He who shows Himself praiseworthy to His servants through beneficence and bount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çÄâä£á·áW á½âÒå·á®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r pardon gratuitous bount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ÁåÒáä§ÂB áÑ ãäÌáÇåÂCãQ åÈâÎáoáÇá²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looding them with kindness and graciousne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áXáÇå¯ãÊ CáË×ã¶ Ôáxå¶áF Eá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ow much of Your favour has been spread about among 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áXáäËãÆ CáËå×áÃá® á´áRåsáF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r kindness lavished upon 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?á½ãäoãRãQ CáËáä|ág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r goodness singled out for 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Yå×á·á§å{B ÕãmáäÂB áÀãËÖãkãÂ CáËáXåÖáká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guided us to Your religion which You have chos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Yå×á£áWånB Ø~ãXáäÂB áÀãXáäÃã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r creed with which You are pleas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YåÃáäÏás ÕãmáäÂB áÀãÃ×ãRás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r path which You have made smoot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XáÆBáoá¾ ÔáÂãH áÁÒâ{âÒåÂB áÑ áÀåÖákáÂ áUá·åÂâäqÂB CáËáWåoáä|áQ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 have shown us proximity to You and arrival at Your generosity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ã¸ãMEáªáÒåÂB áÀåÃãW CáÖCá·á{ åÌãÆ áYåÃá¯á_ áYåÊáF áÑ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among the choicest of those duties  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¡Ñâoâ·åÂB áÀåÃãW ã}ãMEá|ág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most special of those obligation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çÁåká® áÀâXáQÒâ»â®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r punishment justi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nÒâÏâäxÂB ãoãMEás åÌãÆ âÐáXå|á|áXågB ÕãmáäÂB áÉCá£áÆán áoåÏá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appointed the month of Ramadan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hich You have singled out from other month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nÒâÎâäkÂBáÑ ãUáËãÆåpáÛBB ã°×ãÇá_ åÌãÆ âÐáWåoáä×áh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chosen from among all periods and era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ãUáËáätÂB ãVCáºåÑáF ãäÄâ¾ ÔáÃá® âÐáWåoá[D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nÒâäËÂBáÑ ãÉDåoâ»åÂB áÌãÆ ãÐ×ã¶ áYåÂáqåÊá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referred over all times of the year through the Qur’án and the Light which You sent down within i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ÉCáÇÖãåßB áÌãÆ ãÐ×ã¶ áYå·á®Cá¢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faith which You multiplied by means of i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Cá×ãä|ÂB áÌãÆ ãÐ×ã¶ áYå¢áoá¶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fasting which You obligated therei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Cá×ã»åÂB áÌãÆ ãÐ×ã¶ áYåRáä²á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standing in prayer which You encouraged at its ti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nåká»åÂB ãUáÃå×áÂ åÌãÆ ãÐ×ã¶ áYåÃáÃå_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Night of Decree which You magnified therei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oåÏáw ã¸åÂáF åÌãÆ çoå×ág áØãÎ Ø~ãXáä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night which is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etter than a thousand months. 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97: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áÆâåÛB ãoãMEás ÔáÃá® ãÐãQ CáËáWåoá[D áäÈâ[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rough it You have preferred us over the other comm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ÄáÃãÇåÂB ãÄåÎáF áÉÑâj ãÐãÃå£á·ãQ CáËáXå×á·á§å{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rough its excellence You have chosen us to the exclusion of the people of the cr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çTáoá×ãg á½âJEá£á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r decree a choice for the be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ÍánCáÏáÊ á½ãoåÆáGãQ CáËåÇâ|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e fasted by Your command in its dayligh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áÃå×áÂ áÀãÊåÒá¯ãQ CáËåÇâ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e stood in prayer with Your help in its nigh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XáÇåcán åÌãÆ âÐáÂ CáËáXå¢áäoá® CáÇãÂ ãÐãÆCá×ãºáÑ ãÐãÆCá×ã|ãQ áÌ×ã¢ãäoá¯áXâ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resenting ourselves by its fasting and its standing to the mercy which You have held up before 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XáQåÒâ\áÆ åÌãÆ ãÐå×áÂãH EáËåRáäRát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we found through it the means to Your rew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H ãÐ×ã¶ áSã²ân CáÇãQ âAØãÃáÇåÂB áYåÊ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 are full of what is sought from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Ãå£á¶ åÌãÆ áYåÃãNâs CáÇãQ âjBáÒá`å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unificent with what is asked of Your bount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áQåoâº áÁáÑCác åÌáÆ ÔáÂãH âSÖãoá»å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near to him who strives for Your near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åÇác áÅCá»áÆ âoåÏáäxÂB BámáÎ CáË×ã¶ áÅCáºáF åká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is month stood among us in a standing place of prais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nÑâoåRáÆ áUáRådâ{ CáËáRãdá{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ccompanied us with the companionship of one approv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×ãÇáÂCá¯åÂB ãbCáQånáF áÄá£å¶áF EáËádáQån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rofited us with the most excellent profit of the world’s crea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name</cp:lastModifiedBy>
  <dcterms:modified xsi:type="dcterms:W3CDTF">2006-09-30T16:30:44Z</dcterms:modified>
  <cp:revision>136</cp:revision>
  <dc:subject/>
  <dc:title>Du`a for Bidding Farewell to Ramadan</dc:title>
</cp:coreProperties>
</file>